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177-FAD7-432C-90E3-0C417D59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3BA-4DBD-45BB-B899-9A1F808B23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838B-630D-47DD-9C09-BDDF33B87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8280-823B-4B31-817E-26338F44B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8F09-443D-415B-BF97-02FF8714C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17E3-ECE2-4437-8261-CB2B2C5B5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AC2-9800-4617-A26B-941B1CF3F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F26C-1A75-4566-B8DF-DFBE0FF755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D014-4D7F-4845-81FC-34631CBB65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F56-28CB-44B4-9CC3-6C2B95850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AAA-0377-4336-ACDC-031B36738D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E1EE-E1BD-42A9-B406-5233A43553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FF7-0154-405E-BDF5-A3865BB3A7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2BD-94E4-4DDC-8411-A7F4802385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7E7-BB09-4D27-B5F6-F76DDF2AAE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FD6-8493-4B58-8ADC-1AFD0D571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A02-80B0-471F-994F-301E12F17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4688-4F79-4CBE-AB15-42360E016A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C8A3-7543-49B5-BE31-97D046E227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4BFD-8A9E-4900-9A79-488E00FF04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332-23B0-4EBE-9115-9D6876400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90B-56F1-41D5-ACCD-F3D4D1D916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038-D312-4384-A487-08A724F9F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2EB-AA84-47A7-8D9A-F9F8290C04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6A0-0AD7-45EE-AF58-D03E0CF5B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D96-A2FE-463A-9248-1BFCE1AC2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704F-45AA-46B1-AEDC-19596889E6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734-091F-47E2-92D5-98793141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295-AFFA-4490-BC77-710C664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4C3471-051A-4A39-BA67-9105B54E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5E146-3837-44EB-BFB8-F242239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DD8FE9-6249-47EA-B5CD-11F899D3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3A8037-240A-4F6D-A537-A6761F2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7F133B-EE97-4C58-8B66-0A9C2F8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DD7EFA-442C-4F18-A856-50CD916D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DD6A9-CCD9-4222-9DE0-69E4FC9F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17F66-AF1D-4885-ABEC-59FEBE0C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6EB2E9-4060-4B93-B4EC-DAD95355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BB9E9-5C09-41A8-BE79-11FC66FD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CB3-1F1B-4699-89E3-91619142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9BAB9-3318-4F26-A79D-0AE1D75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AC1187-665E-457C-897B-08929482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8AFD74-2150-422B-A689-143718B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B92B82-A693-4B46-A26E-F744CB2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F66B2-3366-49D2-8B4D-01DC159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736475-DB4A-43E2-BADF-AFD204C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6A093B-C238-4475-9715-6F575EC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3142D7-77C5-49A8-90E9-22C4BF1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5C48C4-E506-41A2-89BA-8D6788A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400190-493E-415B-95AF-A6878E14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3CD-03BB-4791-8AB6-4E753986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88614-1F4E-48EB-97F2-0BC63733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A08E3-0AE9-4F27-9331-9F289DB9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1D81E-11A7-435D-AF92-03B921B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E2CE-2CD6-4A8D-9E13-18204FE8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88E2E-EE53-4CFA-85C3-88255BE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03E2-F8AA-4FA5-84C4-0A9B84EA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22896-4F01-4F77-BC14-3B00FA48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3C97C-C9F6-41A7-A32E-6C472AEB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AA0C3-98DA-419C-9FFD-CC4DA753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0F150-E510-4BE6-A1D7-2E4E641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882DF-4ACA-4FC8-95AC-A546AFC1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93E10-F436-4EDA-8A0D-BC61CE1F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C350A-1D72-4DA0-8A3E-8E2DB898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8F267-01CB-42D7-AFE2-A0456AC2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5398B-E97B-4AA0-B60B-35F17638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41213-10B4-49CC-B80C-9F64DBE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A1F5E-9C20-42A5-9ABE-64A1064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38A02-ADC2-4A27-A673-C2F132F9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F43D0-7A23-477B-9995-4712A029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888F4-E3C3-4ECE-86E3-B8EC919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9F17F-8FE9-431D-95F1-83439EE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0D91C-755B-4617-B951-FBAD1EA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1EA1D-4E50-4317-A725-7584B9C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E4A59-8A6A-4908-B5D3-A2851E5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9FEA6-0346-468C-9763-F107741D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D618B-4A70-4533-B7FE-979DFEFF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5564A-4EBA-41B1-9E90-3952BAFD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A2AED-1AC9-4988-BC81-545FB227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EF082-BF5D-44B8-B553-F083AE6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28444-EFBA-4030-809B-A328AA5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B1F8F-E86B-493A-B038-7C9A284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3C4E-1646-4DE4-A20F-CB5276A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408-CADD-4E11-B789-7EE05FCB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55E2E-3B3F-4D30-9927-1119E17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F7064-8450-4EE6-97BF-416F54C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C351-FF94-4B85-B099-7D13CBB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AAE4A-1DEB-4C8E-88EF-EE1E9C91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CCE9C-3569-4635-819A-4EAE2029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B563-2110-467C-A9BE-DCB4AB61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1C41-3D05-47BF-BA17-0285506E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3EC7-02F4-48E3-9760-CE6F99F6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192A-CB6F-4F41-9650-A74F30AD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50D5-B146-48A0-A33F-557464E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F0F-E376-4547-9254-B005E78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D603-03C5-46AF-8C50-3F6F63DD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B9FE-A2D5-4005-836C-E96BA710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0CFF-297B-42D2-8930-38A073E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6A2C-8002-4CDC-B32D-6C83347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C515-8190-4365-B376-06F877EC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81BC-D9D3-4BE3-A81A-40B8685C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FF9A-BDE2-4A9D-B9BD-34C1E102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A913F-CBA0-4E92-B384-203B4027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2F4C3-FC0C-482F-9854-B4933035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61505-5D05-4EFC-8FC5-DA64D4D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361-2038-4801-8083-27BCAA6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FE080-9BDD-4A0E-9E48-78C4F07F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B9BA8-8469-4C06-A186-31543B24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79210-A277-4DFF-A078-D713046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E117E-3E67-4E79-A434-7459F4A0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A983B-B590-4A97-85A9-2B26646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0763A-55C4-4B23-ACC5-9D131281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A4FCD-98E9-4232-B2C0-36580E6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C52FA-D7D4-413D-A2B9-15A18A13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C54CB-5F1A-4F1B-AB20-1B621F7F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48A7-B49F-40A9-974C-EBD6060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6F4-DF96-4888-9989-31E9B6E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3763-731A-4BFB-8F10-AE9C088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DA01-6A10-4A93-A967-47D92F9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D41E-0245-4905-B2D9-56C65EB2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3E6AB-3505-494D-BFD3-080D2EEC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3A372-B7B0-4F4B-9D16-F8207E2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4EA40-DE23-4A27-A152-38AA7E1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C165-40FA-477B-84E4-D0A41E8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EC73-DABA-480E-BA41-6297887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2AE0-2679-4882-8F99-BC7F267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8F1B-AA39-47A2-9BAF-EAD045B9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9E3-8149-4161-BE6F-5D69A177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0EDF-2BD0-43C9-AD8B-814E30F6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1204-49DB-460D-B66E-4E590D1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14189-2FE9-4FA8-84D5-A0A717B2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ECA9-2CC3-4CF1-A1BB-64911D1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5D36A-90A2-4F3B-BBEC-28473C1C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5485-C0BE-491A-B4CF-427A9B2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D92C-DEE5-4AC4-AF4B-991BA506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FD318-3F59-4A9D-8AFF-F6072D0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29BD-102C-495A-BB5E-F4E564F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918C-70EB-475F-8359-EDCB09A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6C6-4B3D-46B8-A250-4CB84F3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3D720-4BC6-4E90-ABF1-07010241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874A-A509-4557-9A40-1C052F17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EF27-73A6-4D94-A6A4-7408C0A0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84AD-0925-4A98-AA49-50353575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3F98-0EF4-416B-A110-7C7DD272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0053F-7A6F-4A53-832B-61706FD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1A37F-6002-4AE7-906B-6C1DAE4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AB67-7D9E-45AF-A0D6-32DD953C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CA32-6CEE-4ED6-BC28-364FAB02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3993-3623-4BF4-94D3-DF5944C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B1C-9F50-41BD-B663-FB6AAAF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B241E-5F98-48AF-853D-A5EC61F8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5E5E-BD54-4A66-BFC0-BE7AA1C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BAE4-B785-4C54-8571-E98CB870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DF7F-9141-497B-A6E6-BAB444C1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F1AE6-AB0C-4910-8727-8D13B0D0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ACEFD-12DC-4C64-9463-F3193965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37BF5-9E67-4FBD-A80F-E6820DB5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7947-6A7F-46D8-9D98-F80E251B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9575F-1A7B-4C67-8A38-E2107C6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E289-6B63-41E8-BD50-91E0AAB1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FC6-98CD-4D1D-ADD5-6DE05BC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28A7-727A-4EF1-9B44-AE0BDEA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59AB-3D28-4594-AE7E-E4C44A63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102B1-BD9A-45DA-BD54-E98C4C2C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CE245-A3AD-4813-8B6D-D6BD70F9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370D-0971-425C-A43E-71CEEC88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F5AE4-AB57-4BD7-9312-A1056251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6D36-2B27-4B8A-B1F3-ED8531A1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34159C-9FAE-4844-B6B0-C9C390D5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C450D-4D22-4062-BF3B-727722A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0B258F-098A-4D52-A9C1-AAFE6490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425-F7B3-4874-8760-93A5A280AB59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02D-D396-428F-A983-01E31336A0C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0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2F4-A040-41CE-A917-DF63D47E322D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3E3-AF0E-4EDD-A6D3-542D7EEBFC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485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47F-63CA-4AAE-8D7B-1734EAE1FBBC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6AA4-0B17-4D2A-86CF-44982AD3A46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3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4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536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1EA-359D-4E2A-9DE4-EBC3B8541BEB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221C-9247-4103-9D95-5915440CB0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ound Diagonal Corner Rectangle 1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52" name="Round Diagonal Corner Rectangle 1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D48-934E-4128-A8C5-C919BD7D5799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561D-E396-4CEA-AE44-D546D5895D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00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0C03-70B2-46E4-8827-7D4EBD39BE2B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9C76-1910-42CE-BDE4-49CB71883B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6F82-AA98-4525-8AB9-AE8B84D9BDC8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7FBB-0C7D-4435-B72D-C21C60F706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9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94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F81E-80D6-4FE4-B940-EBE9E27C097D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A30-553B-4074-92E3-4743107F62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4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46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C20D-5246-4BB3-B471-C494DA15B144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54D-BB1F-4C8F-9CD5-84AADED83D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99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D963-AE59-4463-9009-B7DE3FD125F4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15F-2AC7-4595-822F-4B3C37FAB1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4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Rectangle 1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8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351" name="Line 9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Rectangle 11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A75-FADE-4717-BF4C-9BD0DA2BB467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11EC-E374-4220-AB07-E13AE496683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6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CB81-3DE3-43B6-9F96-7B6109D70BDA}" type="datetime"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C330-A9B9-40BA-B63E-321983157A7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MEDUC 6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6"/>
          <p:cNvSpPr/>
          <p:nvPr/>
        </p:nvSpPr>
        <p:spPr>
          <a:xfrm>
            <a:off x="1620360" y="762120"/>
            <a:ext cx="77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aching and Learning with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27"/>
          <p:cNvSpPr/>
          <p:nvPr/>
        </p:nvSpPr>
        <p:spPr>
          <a:xfrm>
            <a:off x="1391760" y="762120"/>
            <a:ext cx="77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aching and Learning with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28"/>
          <p:cNvSpPr/>
          <p:nvPr/>
        </p:nvSpPr>
        <p:spPr>
          <a:xfrm>
            <a:off x="990720" y="27432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bde"/>
                </a:solidFill>
                <a:latin typeface="Arial Rounded MT Bold"/>
              </a:rPr>
              <a:t>Theoretical</a:t>
            </a:r>
            <a:br>
              <a:rPr sz="4800"/>
            </a:br>
            <a:r>
              <a:rPr b="1" lang="en-US" sz="4800" spc="-1" strike="noStrike">
                <a:solidFill>
                  <a:srgbClr val="eaebde"/>
                </a:solidFill>
                <a:latin typeface="Arial Rounded MT Bold"/>
              </a:rPr>
              <a:t>Fou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29"/>
          <p:cNvSpPr/>
          <p:nvPr/>
        </p:nvSpPr>
        <p:spPr>
          <a:xfrm>
            <a:off x="4495680" y="25146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30"/>
          <p:cNvSpPr/>
          <p:nvPr/>
        </p:nvSpPr>
        <p:spPr>
          <a:xfrm rot="3942000">
            <a:off x="155160" y="408600"/>
            <a:ext cx="1719000" cy="1463760"/>
          </a:xfrm>
          <a:prstGeom prst="rect">
            <a:avLst/>
          </a:prstGeom>
          <a:solidFill>
            <a:srgbClr val="fffaef"/>
          </a:solidFill>
          <a:ln w="9360">
            <a:solidFill>
              <a:srgbClr val="ff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2"/>
          <p:cNvSpPr/>
          <p:nvPr/>
        </p:nvSpPr>
        <p:spPr>
          <a:xfrm>
            <a:off x="0" y="457200"/>
            <a:ext cx="9144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3"/>
          <p:cNvSpPr/>
          <p:nvPr/>
        </p:nvSpPr>
        <p:spPr>
          <a:xfrm>
            <a:off x="60480" y="598320"/>
            <a:ext cx="92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riffonShadow"/>
              </a:rPr>
              <a:t>Technology and Teaching in Lear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Group 34"/>
          <p:cNvGrpSpPr/>
          <p:nvPr/>
        </p:nvGrpSpPr>
        <p:grpSpPr>
          <a:xfrm>
            <a:off x="0" y="1523880"/>
            <a:ext cx="9143640" cy="75960"/>
            <a:chOff x="0" y="1523880"/>
            <a:chExt cx="9143640" cy="75960"/>
          </a:xfrm>
        </p:grpSpPr>
        <p:sp>
          <p:nvSpPr>
            <p:cNvPr id="597" name="Line 35"/>
            <p:cNvSpPr/>
            <p:nvPr/>
          </p:nvSpPr>
          <p:spPr>
            <a:xfrm>
              <a:off x="0" y="152388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36"/>
            <p:cNvSpPr/>
            <p:nvPr/>
          </p:nvSpPr>
          <p:spPr>
            <a:xfrm>
              <a:off x="0" y="159984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Footer Placeholder 11"/>
          <p:cNvSpPr/>
          <p:nvPr/>
        </p:nvSpPr>
        <p:spPr>
          <a:xfrm>
            <a:off x="1600200" y="6508800"/>
            <a:ext cx="390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Rockwell"/>
              </a:rPr>
              <a:t>Psychological Facto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dividual differences that define and impact communicated informa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Emotional state may interfere with message recep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earning styles may interfere with transmission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Rockwell"/>
              </a:rPr>
              <a:t>Personal Filt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dividual’s values, heritage, and belief syst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ay include attitudes, cultural differences, and opin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Filters are present in both sender and receiv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Rectangle 3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Rockwell"/>
              </a:rPr>
              <a:t>Behaviorist’s Perspectiv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ll behavior is a response to external stimuli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Students learn in response to rewards and punish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earning is a passive response to the environm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Cognitivist’s Perspecti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Focus is on learning as a mental opera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formation enters through senses Learning is explained by how one think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Believe learning is more complex than behaviorist respons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Constructivist’s Perspecti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Knowledge is constructed as a result of the learning proces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earning occurs when knowledge is assimilated or accommodated (Piaget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Knowledge may be constructed best in a social contex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3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Cognitive Sty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anner in which one thinks and interprets the environm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yers-Briggs helps determine cognitive preferenc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Understanding cognitive styles helps teachers create supportive environ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3" descr="Fig 1-7"/>
          <p:cNvPicPr/>
          <p:nvPr/>
        </p:nvPicPr>
        <p:blipFill>
          <a:blip r:embed="rId2"/>
          <a:stretch/>
        </p:blipFill>
        <p:spPr>
          <a:xfrm>
            <a:off x="4114800" y="1752480"/>
            <a:ext cx="3557520" cy="44197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4"/>
          <p:cNvSpPr/>
          <p:nvPr/>
        </p:nvSpPr>
        <p:spPr>
          <a:xfrm>
            <a:off x="762120" y="335268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ers-Brig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gnitive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Learning Sty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Conditions under which one learns bes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Relates to individual sensory dominan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uditory learners learn best by listen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Visual learners learn best by see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Kinesthetic/Tactile learners learn best by doing and touch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Rectangle 2" descr=""/>
          <p:cNvPicPr/>
          <p:nvPr/>
        </p:nvPicPr>
        <p:blipFill>
          <a:blip r:embed="rId1"/>
          <a:stretch/>
        </p:blipFill>
        <p:spPr>
          <a:xfrm>
            <a:off x="1652760" y="378000"/>
            <a:ext cx="7119720" cy="11649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Rockwell"/>
              </a:rPr>
              <a:t>Intelligence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herent capabilities to learn and understan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Standford-Binet tests emphasize logical/mathematical and verbal capabiliti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Howard Gardner’s Theory of Multiple Intelligences emphasizes multiple capabiliti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Rectangle 13" descr=""/>
          <p:cNvPicPr/>
          <p:nvPr/>
        </p:nvPicPr>
        <p:blipFill>
          <a:blip r:embed="rId1"/>
          <a:stretch/>
        </p:blipFill>
        <p:spPr>
          <a:xfrm>
            <a:off x="1652760" y="378000"/>
            <a:ext cx="7119720" cy="11649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Verbal-Linguisti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athematical-Logic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Visual-Spati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Bodily-Kinestheti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16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terperson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Intraperson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Naturalisti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Existential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Music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1905120" y="1828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Multiple Intelli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Footer Placeholder 5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Rectangl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504200" cy="11588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8380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Educational technology is any technology that is used to support teaching and learn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ISTE’s NETS-T and NETS-S standards articulate what teachers and students should kno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4f5ea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"/>
          <p:cNvSpPr/>
          <p:nvPr/>
        </p:nvSpPr>
        <p:spPr>
          <a:xfrm>
            <a:off x="457200" y="30481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Multiple Intelli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Rectangle 5" descr=""/>
          <p:cNvPicPr/>
          <p:nvPr/>
        </p:nvPicPr>
        <p:blipFill>
          <a:blip r:embed="rId1"/>
          <a:stretch/>
        </p:blipFill>
        <p:spPr>
          <a:xfrm>
            <a:off x="1652760" y="378000"/>
            <a:ext cx="7119720" cy="11649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3989520" cy="4552920"/>
          </a:xfrm>
          <a:prstGeom prst="rect">
            <a:avLst/>
          </a:prstGeom>
          <a:ln w="0">
            <a:noFill/>
          </a:ln>
        </p:spPr>
      </p:pic>
      <p:sp>
        <p:nvSpPr>
          <p:cNvPr id="668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10" descr=""/>
          <p:cNvPicPr/>
          <p:nvPr/>
        </p:nvPicPr>
        <p:blipFill>
          <a:blip r:embed="rId1"/>
          <a:stretch/>
        </p:blipFill>
        <p:spPr>
          <a:xfrm>
            <a:off x="1695600" y="378000"/>
            <a:ext cx="7076880" cy="115884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Teaching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= a systematic, planned sequence of event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A process that communicates ideas/skill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Takes into account individual and environmental fact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Aware of learning theories &amp; learner characteristic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10" descr=""/>
          <p:cNvPicPr/>
          <p:nvPr/>
        </p:nvPicPr>
        <p:blipFill>
          <a:blip r:embed="rId1"/>
          <a:stretch/>
        </p:blipFill>
        <p:spPr>
          <a:xfrm>
            <a:off x="1695600" y="378000"/>
            <a:ext cx="7076880" cy="1158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Technology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a component of the teaching/learning pro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Educational technology includes resources that facilitate teaching/learn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This view of technology has evolved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It’s consistent with evolution of   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learning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 theori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9" descr=""/>
          <p:cNvPicPr/>
          <p:nvPr/>
        </p:nvPicPr>
        <p:blipFill>
          <a:blip r:embed="rId1"/>
          <a:stretch/>
        </p:blipFill>
        <p:spPr>
          <a:xfrm>
            <a:off x="1695600" y="378000"/>
            <a:ext cx="7076880" cy="11588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eaching and learning work together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listic planning is the key to effective learn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ducational technologies selected after planning complete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o enhance instru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2" descr=""/>
          <p:cNvPicPr/>
          <p:nvPr/>
        </p:nvPicPr>
        <p:blipFill>
          <a:blip r:embed="rId1"/>
          <a:stretch/>
        </p:blipFill>
        <p:spPr>
          <a:xfrm>
            <a:off x="1620720" y="378000"/>
            <a:ext cx="7072560" cy="115884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An Historical Over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Began in the early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0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with mov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lides, radio, sound recordings were added in the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20s-1930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elevision drove audio-visuals in the </a:t>
            </a: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50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Rectangle 11" descr=""/>
          <p:cNvPicPr/>
          <p:nvPr/>
        </p:nvPicPr>
        <p:blipFill>
          <a:blip r:embed="rId1"/>
          <a:stretch/>
        </p:blipFill>
        <p:spPr>
          <a:xfrm>
            <a:off x="1620720" y="378000"/>
            <a:ext cx="7072560" cy="1158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An Historical Over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6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A-V expanded to a broader systems view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7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educational technology redefined and expanded further to include all technolog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Rockwell"/>
              </a:rPr>
              <a:t>1980s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: educational technology entered the Digital Ag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3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10" descr=""/>
          <p:cNvPicPr/>
          <p:nvPr/>
        </p:nvPicPr>
        <p:blipFill>
          <a:blip r:embed="rId1"/>
          <a:stretch/>
        </p:blipFill>
        <p:spPr>
          <a:xfrm>
            <a:off x="1620720" y="378000"/>
            <a:ext cx="7072560" cy="11588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9144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Rockwell"/>
              </a:rPr>
              <a:t>To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Holistic vie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ll media and systems that support 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teaching/learn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eachers must decide how to best utilize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86" name="Picture 18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8600" cy="3214800"/>
          </a:xfrm>
          <a:prstGeom prst="rect">
            <a:avLst/>
          </a:prstGeom>
          <a:ln w="0">
            <a:noFill/>
          </a:ln>
        </p:spPr>
      </p:pic>
      <p:sp>
        <p:nvSpPr>
          <p:cNvPr id="687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1914480" y="274680"/>
            <a:ext cx="6705720" cy="11826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Technology are the tools to help create an effective instructional ev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Rockwell"/>
              </a:rPr>
              <a:t>Instructional events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 = all teaching methods and learning experienc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Rockwell"/>
              </a:rPr>
              <a:t>Learning environment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 = physical and non-physical aspects where instruction takes plac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Rectangle 2" descr=""/>
          <p:cNvPicPr/>
          <p:nvPr/>
        </p:nvPicPr>
        <p:blipFill>
          <a:blip r:embed="rId1"/>
          <a:stretch/>
        </p:blipFill>
        <p:spPr>
          <a:xfrm>
            <a:off x="1884240" y="450720"/>
            <a:ext cx="6126120" cy="11588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Variety of theories explain how we lear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ach theory offers a different perspective or view as to how learning occu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ome theories may be contradicto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Teachers must decide on theory for themselv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10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2" descr="Fig 1-6"/>
          <p:cNvPicPr/>
          <p:nvPr/>
        </p:nvPicPr>
        <p:blipFill>
          <a:blip r:embed="rId2"/>
          <a:stretch/>
        </p:blipFill>
        <p:spPr>
          <a:xfrm>
            <a:off x="3581280" y="1905120"/>
            <a:ext cx="4229280" cy="42544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3"/>
          <p:cNvSpPr/>
          <p:nvPr/>
        </p:nvSpPr>
        <p:spPr>
          <a:xfrm>
            <a:off x="531720" y="2971800"/>
            <a:ext cx="314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ndation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cks for 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ing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Rectangle 2" descr=""/>
          <p:cNvPicPr/>
          <p:nvPr/>
        </p:nvPicPr>
        <p:blipFill>
          <a:blip r:embed="rId1"/>
          <a:stretch/>
        </p:blipFill>
        <p:spPr>
          <a:xfrm>
            <a:off x="1731960" y="450720"/>
            <a:ext cx="6083280" cy="11653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50021"/>
                </a:solidFill>
                <a:latin typeface="Rockwell"/>
              </a:rPr>
              <a:t>Learning as Communication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Knowledge is transferred from sender to receiver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Receiver returns feedback to sender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Sender receives feedback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Rockwell"/>
              </a:rPr>
              <a:t>Variables may alter intended meaning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5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1731960" y="450720"/>
            <a:ext cx="6083280" cy="11653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 txBox="1"/>
          <p:nvPr/>
        </p:nvSpPr>
        <p:spPr>
          <a:xfrm>
            <a:off x="76212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Rockwell"/>
              </a:rPr>
              <a:t>Learning as Communication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  <p:grpSp>
        <p:nvGrpSpPr>
          <p:cNvPr id="618" name="Group 17"/>
          <p:cNvGrpSpPr/>
          <p:nvPr/>
        </p:nvGrpSpPr>
        <p:grpSpPr>
          <a:xfrm>
            <a:off x="838080" y="2438280"/>
            <a:ext cx="7620120" cy="3657600"/>
            <a:chOff x="838080" y="2438280"/>
            <a:chExt cx="7620120" cy="3657600"/>
          </a:xfrm>
        </p:grpSpPr>
        <p:pic>
          <p:nvPicPr>
            <p:cNvPr id="619" name="Picture 18" descr="Fig 1"/>
            <p:cNvPicPr/>
            <p:nvPr/>
          </p:nvPicPr>
          <p:blipFill>
            <a:blip r:embed="rId2"/>
            <a:stretch/>
          </p:blipFill>
          <p:spPr>
            <a:xfrm>
              <a:off x="838080" y="2438280"/>
              <a:ext cx="76201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Rectangle 19"/>
            <p:cNvSpPr/>
            <p:nvPr/>
          </p:nvSpPr>
          <p:spPr>
            <a:xfrm>
              <a:off x="2481120" y="3711240"/>
              <a:ext cx="1054080" cy="1487520"/>
            </a:xfrm>
            <a:prstGeom prst="rect">
              <a:avLst/>
            </a:prstGeom>
            <a:gradFill rotWithShape="0">
              <a:gsLst>
                <a:gs pos="0">
                  <a:srgbClr val="cae0fe"/>
                </a:gs>
                <a:gs pos="50000">
                  <a:srgbClr val="ffffff"/>
                </a:gs>
                <a:gs pos="100000">
                  <a:srgbClr val="cae0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20"/>
            <p:cNvSpPr/>
            <p:nvPr/>
          </p:nvSpPr>
          <p:spPr>
            <a:xfrm>
              <a:off x="5792040" y="3745800"/>
              <a:ext cx="1054080" cy="1487520"/>
            </a:xfrm>
            <a:prstGeom prst="rect">
              <a:avLst/>
            </a:prstGeom>
            <a:gradFill rotWithShape="0">
              <a:gsLst>
                <a:gs pos="0">
                  <a:srgbClr val="cae0fe"/>
                </a:gs>
                <a:gs pos="50000">
                  <a:srgbClr val="ffffff"/>
                </a:gs>
                <a:gs pos="100000">
                  <a:srgbClr val="cae0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2" name="Picture 21" descr="j0301252"/>
            <p:cNvPicPr/>
            <p:nvPr/>
          </p:nvPicPr>
          <p:blipFill>
            <a:blip r:embed="rId3"/>
            <a:stretch/>
          </p:blipFill>
          <p:spPr>
            <a:xfrm>
              <a:off x="2528280" y="4073040"/>
              <a:ext cx="978840" cy="84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2" descr="j0292024"/>
            <p:cNvPicPr/>
            <p:nvPr/>
          </p:nvPicPr>
          <p:blipFill>
            <a:blip r:embed="rId4"/>
            <a:stretch/>
          </p:blipFill>
          <p:spPr>
            <a:xfrm>
              <a:off x="5818320" y="4023360"/>
              <a:ext cx="1002960" cy="91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Footer Placeholder 9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Rectangle 11" descr=""/>
          <p:cNvPicPr/>
          <p:nvPr/>
        </p:nvPicPr>
        <p:blipFill>
          <a:blip r:embed="rId1"/>
          <a:stretch/>
        </p:blipFill>
        <p:spPr>
          <a:xfrm>
            <a:off x="1731960" y="450720"/>
            <a:ext cx="6083280" cy="11653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Fig 1-5"/>
          <p:cNvPicPr/>
          <p:nvPr/>
        </p:nvPicPr>
        <p:blipFill>
          <a:blip r:embed="rId2"/>
          <a:stretch/>
        </p:blipFill>
        <p:spPr>
          <a:xfrm>
            <a:off x="3048120" y="1752480"/>
            <a:ext cx="4952880" cy="466416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15"/>
          <p:cNvSpPr/>
          <p:nvPr/>
        </p:nvSpPr>
        <p:spPr>
          <a:xfrm>
            <a:off x="458280" y="33526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Rectangle 2" descr=""/>
          <p:cNvPicPr/>
          <p:nvPr/>
        </p:nvPicPr>
        <p:blipFill>
          <a:blip r:embed="rId1"/>
          <a:stretch/>
        </p:blipFill>
        <p:spPr>
          <a:xfrm>
            <a:off x="1500120" y="450720"/>
            <a:ext cx="7040520" cy="11653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Rockwell"/>
              </a:rPr>
              <a:t>Environmental Facto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ny factor that may cause a learner to lose foc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Can block commun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Lighting, movement, temperature may interfere with commun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1" name="Footer Placeholder 3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Arial"/>
              </a:rPr>
              <a:t>MEDUC 61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00:09:04Z</dcterms:created>
  <dc:creator>Unknown User</dc:creator>
  <dc:description/>
  <dc:language>en-US</dc:language>
  <cp:lastModifiedBy>cregan</cp:lastModifiedBy>
  <dcterms:modified xsi:type="dcterms:W3CDTF">2010-03-23T18:04:13Z</dcterms:modified>
  <cp:revision>30</cp:revision>
  <dc:subject/>
  <dc:title>Theoretical Foundations</dc:title>
</cp:coreProperties>
</file>